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080625" cy="7559675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7D63-D17A-45D1-B923-A9F428B95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1E96-5067-4A25-8C69-01CE19E6F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7BDC-075B-4670-9797-648E6980D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4959-1045-4100-B92D-129C59C5B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0669-7D81-4775-B1D4-163BD3947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E20C-AC38-446B-8E71-3459A2A4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8D3F-7B72-4220-ACFE-3390E3102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B3E7-73BD-416A-8DC8-2B78610FF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E3C0-B981-430F-BC65-3186E7D4C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527B-D099-43F9-AB0D-3D6FBD5D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06C4-D822-457B-88A1-603F563E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F0A8-0823-4CB6-81B6-0503CFF5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386481-55CC-4DD5-9DBA-CB0564BEDF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0080720" cy="1260360"/>
          </a:xfrm>
          <a:prstGeom prst="roundRect">
            <a:avLst>
              <a:gd name="adj" fmla="val 125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3200" spc="-1" strike="noStrike">
                <a:solidFill>
                  <a:srgbClr val="ffffff"/>
                </a:solidFill>
                <a:latin typeface="Arial"/>
              </a:rPr>
              <a:t>Suivi régional des Parcours V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13240" y="2014560"/>
            <a:ext cx="62474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Le Suivi régional des parcours VAE : pourquoi, comment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54640" y="2987640"/>
            <a:ext cx="2821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Les dispositifs région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33040" y="3851280"/>
            <a:ext cx="56239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Créer un espace régional de suivi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84160" y="4716360"/>
            <a:ext cx="1413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Connex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3280" y="3187800"/>
            <a:ext cx="9074160" cy="23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ncez l’export de votre fichier de données harmonisé et anonym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enregistrement de votre fichier dans le serv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fusion de vos données avec celles enregistrées antérie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incorporation de ces données dans la base régionale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 l’issue de cette opération, vos données seront enregistrées sur le serveur. Elles resteront parfaitement anony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 l’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135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95280" y="3708360"/>
            <a:ext cx="7848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3708360"/>
            <a:ext cx="5257800" cy="287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146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76720" y="2700360"/>
            <a:ext cx="5040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</a:t>
            </a:r>
            <a:r>
              <a:rPr b="0" lang="fr-FR" sz="1400" spc="-1" strike="noStrike">
                <a:solidFill>
                  <a:srgbClr val="0000cc"/>
                </a:solidFill>
                <a:latin typeface="Arial"/>
              </a:rPr>
              <a:t>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95280" y="3708360"/>
            <a:ext cx="7848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295280" y="3708360"/>
            <a:ext cx="7848720" cy="287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41280" y="4194000"/>
            <a:ext cx="6967800" cy="26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os données ont été correctement exportées dans la base des parcours VA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ous pourrez les consulter d’ici 48h  en revenant vers le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Arial"/>
              </a:rPr>
              <a:t>« mes fichiers, mes statistiques 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158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10080720" cy="1476360"/>
          </a:xfrm>
          <a:prstGeom prst="roundRect">
            <a:avLst>
              <a:gd name="adj" fmla="val 125"/>
            </a:avLst>
          </a:prstGeom>
          <a:solidFill>
            <a:srgbClr val="0099ff"/>
          </a:soli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ffffff"/>
                </a:solidFill>
                <a:latin typeface="Arial"/>
              </a:rPr>
              <a:t>Suivi régional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ffffff"/>
                </a:solidFill>
                <a:latin typeface="Arial"/>
              </a:rPr>
              <a:t>Provence Alpes Côte d‘A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800" spc="-1" strike="noStrike">
                <a:solidFill>
                  <a:srgbClr val="ffffff"/>
                </a:solidFill>
                <a:latin typeface="Arial"/>
              </a:rPr>
              <a:t>Mes fichiers, mes statist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576360" y="1835280"/>
          <a:ext cx="8208720" cy="1746000"/>
        </p:xfrm>
        <a:graphic>
          <a:graphicData uri="http://schemas.openxmlformats.org/drawingml/2006/table">
            <a:tbl>
              <a:tblPr/>
              <a:tblGrid>
                <a:gridCol w="1550880"/>
                <a:gridCol w="2625840"/>
                <a:gridCol w="1150920"/>
                <a:gridCol w="1008000"/>
                <a:gridCol w="18730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rtificat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chier export enregistré le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ité le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r le fichier trai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c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/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/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647640" y="4572000"/>
          <a:ext cx="6769080" cy="2419200"/>
        </p:xfrm>
        <a:graphic>
          <a:graphicData uri="http://schemas.openxmlformats.org/drawingml/2006/table">
            <a:tbl>
              <a:tblPr/>
              <a:tblGrid>
                <a:gridCol w="2808360"/>
                <a:gridCol w="2016000"/>
                <a:gridCol w="19447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istiq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e du dernier ét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r, téléchar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e de données parcours VAE certificat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e de données parcours VA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ôle quali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cateurs perman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cateurs spécifiq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/10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isations annuelles certificat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4791240" y="2149560"/>
            <a:ext cx="1079280" cy="21564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7964" h="21600">
                <a:moveTo>
                  <a:pt x="0" y="0"/>
                </a:moveTo>
                <a:lnTo>
                  <a:pt x="107964" y="0"/>
                </a:lnTo>
                <a:lnTo>
                  <a:pt x="107964" y="21600"/>
                </a:lnTo>
                <a:lnTo>
                  <a:pt x="0" y="21600"/>
                </a:lnTo>
                <a:close/>
              </a:path>
              <a:path fill="lightenLess" w="107964" h="21600">
                <a:moveTo>
                  <a:pt x="0" y="0"/>
                </a:moveTo>
                <a:lnTo>
                  <a:pt x="107964" y="0"/>
                </a:lnTo>
                <a:lnTo>
                  <a:pt x="106564" y="1400"/>
                </a:lnTo>
                <a:lnTo>
                  <a:pt x="1400" y="1400"/>
                </a:lnTo>
                <a:close/>
              </a:path>
              <a:path fill="darken" w="107964" h="21600">
                <a:moveTo>
                  <a:pt x="107964" y="0"/>
                </a:moveTo>
                <a:lnTo>
                  <a:pt x="107964" y="21600"/>
                </a:lnTo>
                <a:lnTo>
                  <a:pt x="106564" y="20200"/>
                </a:lnTo>
                <a:lnTo>
                  <a:pt x="106564" y="1400"/>
                </a:lnTo>
                <a:close/>
              </a:path>
              <a:path fill="darkenLess" w="107964" h="21600">
                <a:moveTo>
                  <a:pt x="107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64" y="20200"/>
                </a:lnTo>
                <a:close/>
              </a:path>
              <a:path fill="lighten" w="107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310520" y="2149560"/>
            <a:ext cx="1079280" cy="21564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7964" h="21600">
                <a:moveTo>
                  <a:pt x="0" y="0"/>
                </a:moveTo>
                <a:lnTo>
                  <a:pt x="107964" y="0"/>
                </a:lnTo>
                <a:lnTo>
                  <a:pt x="107964" y="21600"/>
                </a:lnTo>
                <a:lnTo>
                  <a:pt x="0" y="21600"/>
                </a:lnTo>
                <a:close/>
              </a:path>
              <a:path fill="lightenLess" w="107964" h="21600">
                <a:moveTo>
                  <a:pt x="0" y="0"/>
                </a:moveTo>
                <a:lnTo>
                  <a:pt x="107964" y="0"/>
                </a:lnTo>
                <a:lnTo>
                  <a:pt x="106564" y="1400"/>
                </a:lnTo>
                <a:lnTo>
                  <a:pt x="1400" y="1400"/>
                </a:lnTo>
                <a:close/>
              </a:path>
              <a:path fill="darken" w="107964" h="21600">
                <a:moveTo>
                  <a:pt x="107964" y="0"/>
                </a:moveTo>
                <a:lnTo>
                  <a:pt x="107964" y="21600"/>
                </a:lnTo>
                <a:lnTo>
                  <a:pt x="106564" y="20200"/>
                </a:lnTo>
                <a:lnTo>
                  <a:pt x="106564" y="1400"/>
                </a:lnTo>
                <a:close/>
              </a:path>
              <a:path fill="darkenLess" w="107964" h="21600">
                <a:moveTo>
                  <a:pt x="107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64" y="20200"/>
                </a:lnTo>
                <a:close/>
              </a:path>
              <a:path fill="lighten" w="107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904000" y="5087880"/>
            <a:ext cx="1079280" cy="21600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07784" h="21600">
                <a:moveTo>
                  <a:pt x="0" y="0"/>
                </a:moveTo>
                <a:lnTo>
                  <a:pt x="107784" y="0"/>
                </a:lnTo>
                <a:lnTo>
                  <a:pt x="107784" y="21600"/>
                </a:lnTo>
                <a:lnTo>
                  <a:pt x="0" y="21600"/>
                </a:lnTo>
                <a:close/>
              </a:path>
              <a:path fill="lightenLess" w="107784" h="21600">
                <a:moveTo>
                  <a:pt x="0" y="0"/>
                </a:moveTo>
                <a:lnTo>
                  <a:pt x="107784" y="0"/>
                </a:lnTo>
                <a:lnTo>
                  <a:pt x="106384" y="1400"/>
                </a:lnTo>
                <a:lnTo>
                  <a:pt x="1400" y="1400"/>
                </a:lnTo>
                <a:close/>
              </a:path>
              <a:path fill="darken" w="107784" h="21600">
                <a:moveTo>
                  <a:pt x="107784" y="0"/>
                </a:moveTo>
                <a:lnTo>
                  <a:pt x="107784" y="21600"/>
                </a:lnTo>
                <a:lnTo>
                  <a:pt x="106384" y="20200"/>
                </a:lnTo>
                <a:lnTo>
                  <a:pt x="106384" y="1400"/>
                </a:lnTo>
                <a:close/>
              </a:path>
              <a:path fill="darkenLess" w="107784" h="21600">
                <a:moveTo>
                  <a:pt x="107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384" y="20200"/>
                </a:lnTo>
                <a:close/>
              </a:path>
              <a:path fill="lighten" w="107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04000" y="5380200"/>
            <a:ext cx="1079280" cy="21564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7964" h="21600">
                <a:moveTo>
                  <a:pt x="0" y="0"/>
                </a:moveTo>
                <a:lnTo>
                  <a:pt x="107964" y="0"/>
                </a:lnTo>
                <a:lnTo>
                  <a:pt x="107964" y="21600"/>
                </a:lnTo>
                <a:lnTo>
                  <a:pt x="0" y="21600"/>
                </a:lnTo>
                <a:close/>
              </a:path>
              <a:path fill="lightenLess" w="107964" h="21600">
                <a:moveTo>
                  <a:pt x="0" y="0"/>
                </a:moveTo>
                <a:lnTo>
                  <a:pt x="107964" y="0"/>
                </a:lnTo>
                <a:lnTo>
                  <a:pt x="106564" y="1400"/>
                </a:lnTo>
                <a:lnTo>
                  <a:pt x="1400" y="1400"/>
                </a:lnTo>
                <a:close/>
              </a:path>
              <a:path fill="darken" w="107964" h="21600">
                <a:moveTo>
                  <a:pt x="107964" y="0"/>
                </a:moveTo>
                <a:lnTo>
                  <a:pt x="107964" y="21600"/>
                </a:lnTo>
                <a:lnTo>
                  <a:pt x="106564" y="20200"/>
                </a:lnTo>
                <a:lnTo>
                  <a:pt x="106564" y="1400"/>
                </a:lnTo>
                <a:close/>
              </a:path>
              <a:path fill="darkenLess" w="107964" h="21600">
                <a:moveTo>
                  <a:pt x="107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64" y="20200"/>
                </a:lnTo>
                <a:close/>
              </a:path>
              <a:path fill="lighten" w="107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904000" y="5651640"/>
            <a:ext cx="1079280" cy="21564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7964" h="21600">
                <a:moveTo>
                  <a:pt x="0" y="0"/>
                </a:moveTo>
                <a:lnTo>
                  <a:pt x="107964" y="0"/>
                </a:lnTo>
                <a:lnTo>
                  <a:pt x="107964" y="21600"/>
                </a:lnTo>
                <a:lnTo>
                  <a:pt x="0" y="21600"/>
                </a:lnTo>
                <a:close/>
              </a:path>
              <a:path fill="lightenLess" w="107964" h="21600">
                <a:moveTo>
                  <a:pt x="0" y="0"/>
                </a:moveTo>
                <a:lnTo>
                  <a:pt x="107964" y="0"/>
                </a:lnTo>
                <a:lnTo>
                  <a:pt x="106564" y="1400"/>
                </a:lnTo>
                <a:lnTo>
                  <a:pt x="1400" y="1400"/>
                </a:lnTo>
                <a:close/>
              </a:path>
              <a:path fill="darken" w="107964" h="21600">
                <a:moveTo>
                  <a:pt x="107964" y="0"/>
                </a:moveTo>
                <a:lnTo>
                  <a:pt x="107964" y="21600"/>
                </a:lnTo>
                <a:lnTo>
                  <a:pt x="106564" y="20200"/>
                </a:lnTo>
                <a:lnTo>
                  <a:pt x="106564" y="1400"/>
                </a:lnTo>
                <a:close/>
              </a:path>
              <a:path fill="darkenLess" w="107964" h="21600">
                <a:moveTo>
                  <a:pt x="107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64" y="20200"/>
                </a:lnTo>
                <a:close/>
              </a:path>
              <a:path fill="lighten" w="107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723280" y="108000"/>
            <a:ext cx="41979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Identifiant : Dupond I Direccte I </a:t>
            </a:r>
            <a:r>
              <a:rPr b="0" lang="fr-FR" sz="1600" spc="-1" strike="noStrike">
                <a:solidFill>
                  <a:srgbClr val="ccccff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916600" y="5938920"/>
            <a:ext cx="1079640" cy="21564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8000" h="21600">
                <a:moveTo>
                  <a:pt x="0" y="0"/>
                </a:moveTo>
                <a:lnTo>
                  <a:pt x="108000" y="0"/>
                </a:lnTo>
                <a:lnTo>
                  <a:pt x="108000" y="21600"/>
                </a:lnTo>
                <a:lnTo>
                  <a:pt x="0" y="21600"/>
                </a:lnTo>
                <a:close/>
              </a:path>
              <a:path fill="lightenLess" w="108000" h="21600">
                <a:moveTo>
                  <a:pt x="0" y="0"/>
                </a:moveTo>
                <a:lnTo>
                  <a:pt x="108000" y="0"/>
                </a:lnTo>
                <a:lnTo>
                  <a:pt x="106600" y="1400"/>
                </a:lnTo>
                <a:lnTo>
                  <a:pt x="1400" y="1400"/>
                </a:lnTo>
                <a:close/>
              </a:path>
              <a:path fill="darken" w="108000" h="21600">
                <a:moveTo>
                  <a:pt x="108000" y="0"/>
                </a:moveTo>
                <a:lnTo>
                  <a:pt x="108000" y="21600"/>
                </a:lnTo>
                <a:lnTo>
                  <a:pt x="106600" y="20200"/>
                </a:lnTo>
                <a:lnTo>
                  <a:pt x="106600" y="1400"/>
                </a:lnTo>
                <a:close/>
              </a:path>
              <a:path fill="darkenLess" w="108000" h="21600">
                <a:moveTo>
                  <a:pt x="108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600" y="20200"/>
                </a:lnTo>
                <a:close/>
              </a:path>
              <a:path fill="lighten" w="108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10080720" cy="1476360"/>
          </a:xfrm>
          <a:prstGeom prst="roundRect">
            <a:avLst>
              <a:gd name="adj" fmla="val 125"/>
            </a:avLst>
          </a:prstGeom>
          <a:solidFill>
            <a:srgbClr val="ffffff"/>
          </a:soli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Suivi régional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Provence Alpes Côte d‘A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800" spc="-1" strike="noStrike">
                <a:solidFill>
                  <a:srgbClr val="0066ff"/>
                </a:solidFill>
                <a:latin typeface="Arial"/>
              </a:rPr>
              <a:t>Tableau de bord gestion / é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22200" y="108000"/>
            <a:ext cx="31496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Identifiant : Admin I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60360" y="1692360"/>
          <a:ext cx="9217080" cy="2638440"/>
        </p:xfrm>
        <a:graphic>
          <a:graphicData uri="http://schemas.openxmlformats.org/drawingml/2006/table">
            <a:tbl>
              <a:tblPr/>
              <a:tblGrid>
                <a:gridCol w="1550880"/>
                <a:gridCol w="2625840"/>
                <a:gridCol w="1150920"/>
                <a:gridCol w="1008000"/>
                <a:gridCol w="1008000"/>
                <a:gridCol w="18734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pag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ctobre 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rtificat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chier export enregistré le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i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ité le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r le fichier trai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/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/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c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JS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A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versité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é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ints Consei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431640" y="5757840"/>
          <a:ext cx="6769440" cy="1444680"/>
        </p:xfrm>
        <a:graphic>
          <a:graphicData uri="http://schemas.openxmlformats.org/drawingml/2006/table">
            <a:tbl>
              <a:tblPr/>
              <a:tblGrid>
                <a:gridCol w="2808360"/>
                <a:gridCol w="2016360"/>
                <a:gridCol w="19447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istiq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e du dernier ét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r, téléchar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ôle quali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cateurs perman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cateurs spécifiq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isations annuel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"/>
          <p:cNvSpPr/>
          <p:nvPr/>
        </p:nvSpPr>
        <p:spPr>
          <a:xfrm>
            <a:off x="4573440" y="2314440"/>
            <a:ext cx="1079640" cy="21600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07820" h="21600">
                <a:moveTo>
                  <a:pt x="0" y="0"/>
                </a:moveTo>
                <a:lnTo>
                  <a:pt x="107820" y="0"/>
                </a:lnTo>
                <a:lnTo>
                  <a:pt x="107820" y="21600"/>
                </a:lnTo>
                <a:lnTo>
                  <a:pt x="0" y="21600"/>
                </a:lnTo>
                <a:close/>
              </a:path>
              <a:path fill="lightenLess" w="107820" h="21600">
                <a:moveTo>
                  <a:pt x="0" y="0"/>
                </a:moveTo>
                <a:lnTo>
                  <a:pt x="107820" y="0"/>
                </a:lnTo>
                <a:lnTo>
                  <a:pt x="106420" y="1400"/>
                </a:lnTo>
                <a:lnTo>
                  <a:pt x="1400" y="1400"/>
                </a:lnTo>
                <a:close/>
              </a:path>
              <a:path fill="darken" w="107820" h="21600">
                <a:moveTo>
                  <a:pt x="107820" y="0"/>
                </a:moveTo>
                <a:lnTo>
                  <a:pt x="107820" y="21600"/>
                </a:lnTo>
                <a:lnTo>
                  <a:pt x="106420" y="20200"/>
                </a:lnTo>
                <a:lnTo>
                  <a:pt x="106420" y="1400"/>
                </a:lnTo>
                <a:close/>
              </a:path>
              <a:path fill="darkenLess" w="107820" h="21600">
                <a:moveTo>
                  <a:pt x="10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20" y="20200"/>
                </a:lnTo>
                <a:close/>
              </a:path>
              <a:path fill="lighten" w="10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085240" y="2305080"/>
            <a:ext cx="1079280" cy="21600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07784" h="21600">
                <a:moveTo>
                  <a:pt x="0" y="0"/>
                </a:moveTo>
                <a:lnTo>
                  <a:pt x="107784" y="0"/>
                </a:lnTo>
                <a:lnTo>
                  <a:pt x="107784" y="21600"/>
                </a:lnTo>
                <a:lnTo>
                  <a:pt x="0" y="21600"/>
                </a:lnTo>
                <a:close/>
              </a:path>
              <a:path fill="lightenLess" w="107784" h="21600">
                <a:moveTo>
                  <a:pt x="0" y="0"/>
                </a:moveTo>
                <a:lnTo>
                  <a:pt x="107784" y="0"/>
                </a:lnTo>
                <a:lnTo>
                  <a:pt x="106384" y="1400"/>
                </a:lnTo>
                <a:lnTo>
                  <a:pt x="1400" y="1400"/>
                </a:lnTo>
                <a:close/>
              </a:path>
              <a:path fill="darken" w="107784" h="21600">
                <a:moveTo>
                  <a:pt x="107784" y="0"/>
                </a:moveTo>
                <a:lnTo>
                  <a:pt x="107784" y="21600"/>
                </a:lnTo>
                <a:lnTo>
                  <a:pt x="106384" y="20200"/>
                </a:lnTo>
                <a:lnTo>
                  <a:pt x="106384" y="1400"/>
                </a:lnTo>
                <a:close/>
              </a:path>
              <a:path fill="darkenLess" w="107784" h="21600">
                <a:moveTo>
                  <a:pt x="107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384" y="20200"/>
                </a:lnTo>
                <a:close/>
              </a:path>
              <a:path fill="lighten" w="107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678640" y="6093000"/>
            <a:ext cx="1079280" cy="21564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7964" h="21600">
                <a:moveTo>
                  <a:pt x="0" y="0"/>
                </a:moveTo>
                <a:lnTo>
                  <a:pt x="107964" y="0"/>
                </a:lnTo>
                <a:lnTo>
                  <a:pt x="107964" y="21600"/>
                </a:lnTo>
                <a:lnTo>
                  <a:pt x="0" y="21600"/>
                </a:lnTo>
                <a:close/>
              </a:path>
              <a:path fill="lightenLess" w="107964" h="21600">
                <a:moveTo>
                  <a:pt x="0" y="0"/>
                </a:moveTo>
                <a:lnTo>
                  <a:pt x="107964" y="0"/>
                </a:lnTo>
                <a:lnTo>
                  <a:pt x="106564" y="1400"/>
                </a:lnTo>
                <a:lnTo>
                  <a:pt x="1400" y="1400"/>
                </a:lnTo>
                <a:close/>
              </a:path>
              <a:path fill="darken" w="107964" h="21600">
                <a:moveTo>
                  <a:pt x="107964" y="0"/>
                </a:moveTo>
                <a:lnTo>
                  <a:pt x="107964" y="21600"/>
                </a:lnTo>
                <a:lnTo>
                  <a:pt x="106564" y="20200"/>
                </a:lnTo>
                <a:lnTo>
                  <a:pt x="106564" y="1400"/>
                </a:lnTo>
                <a:close/>
              </a:path>
              <a:path fill="darkenLess" w="107964" h="21600">
                <a:moveTo>
                  <a:pt x="107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64" y="20200"/>
                </a:lnTo>
                <a:close/>
              </a:path>
              <a:path fill="lighten" w="107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688000" y="6380280"/>
            <a:ext cx="1079640" cy="21564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8000" h="21600">
                <a:moveTo>
                  <a:pt x="0" y="0"/>
                </a:moveTo>
                <a:lnTo>
                  <a:pt x="108000" y="0"/>
                </a:lnTo>
                <a:lnTo>
                  <a:pt x="108000" y="21600"/>
                </a:lnTo>
                <a:lnTo>
                  <a:pt x="0" y="21600"/>
                </a:lnTo>
                <a:close/>
              </a:path>
              <a:path fill="lightenLess" w="108000" h="21600">
                <a:moveTo>
                  <a:pt x="0" y="0"/>
                </a:moveTo>
                <a:lnTo>
                  <a:pt x="108000" y="0"/>
                </a:lnTo>
                <a:lnTo>
                  <a:pt x="106600" y="1400"/>
                </a:lnTo>
                <a:lnTo>
                  <a:pt x="1400" y="1400"/>
                </a:lnTo>
                <a:close/>
              </a:path>
              <a:path fill="darken" w="108000" h="21600">
                <a:moveTo>
                  <a:pt x="108000" y="0"/>
                </a:moveTo>
                <a:lnTo>
                  <a:pt x="108000" y="21600"/>
                </a:lnTo>
                <a:lnTo>
                  <a:pt x="106600" y="20200"/>
                </a:lnTo>
                <a:lnTo>
                  <a:pt x="106600" y="1400"/>
                </a:lnTo>
                <a:close/>
              </a:path>
              <a:path fill="darkenLess" w="108000" h="21600">
                <a:moveTo>
                  <a:pt x="108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600" y="20200"/>
                </a:lnTo>
                <a:close/>
              </a:path>
              <a:path fill="lighten" w="108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80080" y="6647040"/>
            <a:ext cx="1079640" cy="21564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8000" h="21600">
                <a:moveTo>
                  <a:pt x="0" y="0"/>
                </a:moveTo>
                <a:lnTo>
                  <a:pt x="108000" y="0"/>
                </a:lnTo>
                <a:lnTo>
                  <a:pt x="108000" y="21600"/>
                </a:lnTo>
                <a:lnTo>
                  <a:pt x="0" y="21600"/>
                </a:lnTo>
                <a:close/>
              </a:path>
              <a:path fill="lightenLess" w="108000" h="21600">
                <a:moveTo>
                  <a:pt x="0" y="0"/>
                </a:moveTo>
                <a:lnTo>
                  <a:pt x="108000" y="0"/>
                </a:lnTo>
                <a:lnTo>
                  <a:pt x="106600" y="1400"/>
                </a:lnTo>
                <a:lnTo>
                  <a:pt x="1400" y="1400"/>
                </a:lnTo>
                <a:close/>
              </a:path>
              <a:path fill="darken" w="108000" h="21600">
                <a:moveTo>
                  <a:pt x="108000" y="0"/>
                </a:moveTo>
                <a:lnTo>
                  <a:pt x="108000" y="21600"/>
                </a:lnTo>
                <a:lnTo>
                  <a:pt x="106600" y="20200"/>
                </a:lnTo>
                <a:lnTo>
                  <a:pt x="106600" y="1400"/>
                </a:lnTo>
                <a:close/>
              </a:path>
              <a:path fill="darkenLess" w="108000" h="21600">
                <a:moveTo>
                  <a:pt x="108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600" y="20200"/>
                </a:lnTo>
                <a:close/>
              </a:path>
              <a:path fill="lighten" w="108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61080" y="2352600"/>
            <a:ext cx="863640" cy="21600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86256" h="21600">
                <a:moveTo>
                  <a:pt x="0" y="0"/>
                </a:moveTo>
                <a:lnTo>
                  <a:pt x="86256" y="0"/>
                </a:lnTo>
                <a:lnTo>
                  <a:pt x="86256" y="21600"/>
                </a:lnTo>
                <a:lnTo>
                  <a:pt x="0" y="21600"/>
                </a:lnTo>
                <a:close/>
              </a:path>
              <a:path fill="lightenLess" w="86256" h="21600">
                <a:moveTo>
                  <a:pt x="0" y="0"/>
                </a:moveTo>
                <a:lnTo>
                  <a:pt x="86256" y="0"/>
                </a:lnTo>
                <a:lnTo>
                  <a:pt x="84856" y="1400"/>
                </a:lnTo>
                <a:lnTo>
                  <a:pt x="1400" y="1400"/>
                </a:lnTo>
                <a:close/>
              </a:path>
              <a:path fill="darken" w="86256" h="21600">
                <a:moveTo>
                  <a:pt x="86256" y="0"/>
                </a:moveTo>
                <a:lnTo>
                  <a:pt x="86256" y="21600"/>
                </a:lnTo>
                <a:lnTo>
                  <a:pt x="84856" y="20200"/>
                </a:lnTo>
                <a:lnTo>
                  <a:pt x="84856" y="1400"/>
                </a:lnTo>
                <a:close/>
              </a:path>
              <a:path fill="darkenLess" w="86256" h="21600">
                <a:moveTo>
                  <a:pt x="86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56" y="20200"/>
                </a:lnTo>
                <a:close/>
              </a:path>
              <a:path fill="lighten" w="86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trai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83160" y="2614680"/>
            <a:ext cx="1079280" cy="21600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07784" h="21600">
                <a:moveTo>
                  <a:pt x="0" y="0"/>
                </a:moveTo>
                <a:lnTo>
                  <a:pt x="107784" y="0"/>
                </a:lnTo>
                <a:lnTo>
                  <a:pt x="107784" y="21600"/>
                </a:lnTo>
                <a:lnTo>
                  <a:pt x="0" y="21600"/>
                </a:lnTo>
                <a:close/>
              </a:path>
              <a:path fill="lightenLess" w="107784" h="21600">
                <a:moveTo>
                  <a:pt x="0" y="0"/>
                </a:moveTo>
                <a:lnTo>
                  <a:pt x="107784" y="0"/>
                </a:lnTo>
                <a:lnTo>
                  <a:pt x="106384" y="1400"/>
                </a:lnTo>
                <a:lnTo>
                  <a:pt x="1400" y="1400"/>
                </a:lnTo>
                <a:close/>
              </a:path>
              <a:path fill="darken" w="107784" h="21600">
                <a:moveTo>
                  <a:pt x="107784" y="0"/>
                </a:moveTo>
                <a:lnTo>
                  <a:pt x="107784" y="21600"/>
                </a:lnTo>
                <a:lnTo>
                  <a:pt x="106384" y="20200"/>
                </a:lnTo>
                <a:lnTo>
                  <a:pt x="106384" y="1400"/>
                </a:lnTo>
                <a:close/>
              </a:path>
              <a:path fill="darkenLess" w="107784" h="21600">
                <a:moveTo>
                  <a:pt x="107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384" y="20200"/>
                </a:lnTo>
                <a:close/>
              </a:path>
              <a:path fill="lighten" w="107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86280" y="2614680"/>
            <a:ext cx="863640" cy="21600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86256" h="21600">
                <a:moveTo>
                  <a:pt x="0" y="0"/>
                </a:moveTo>
                <a:lnTo>
                  <a:pt x="86256" y="0"/>
                </a:lnTo>
                <a:lnTo>
                  <a:pt x="86256" y="21600"/>
                </a:lnTo>
                <a:lnTo>
                  <a:pt x="0" y="21600"/>
                </a:lnTo>
                <a:close/>
              </a:path>
              <a:path fill="lightenLess" w="86256" h="21600">
                <a:moveTo>
                  <a:pt x="0" y="0"/>
                </a:moveTo>
                <a:lnTo>
                  <a:pt x="86256" y="0"/>
                </a:lnTo>
                <a:lnTo>
                  <a:pt x="84856" y="1400"/>
                </a:lnTo>
                <a:lnTo>
                  <a:pt x="1400" y="1400"/>
                </a:lnTo>
                <a:close/>
              </a:path>
              <a:path fill="darken" w="86256" h="21600">
                <a:moveTo>
                  <a:pt x="86256" y="0"/>
                </a:moveTo>
                <a:lnTo>
                  <a:pt x="86256" y="21600"/>
                </a:lnTo>
                <a:lnTo>
                  <a:pt x="84856" y="20200"/>
                </a:lnTo>
                <a:lnTo>
                  <a:pt x="84856" y="1400"/>
                </a:lnTo>
                <a:close/>
              </a:path>
              <a:path fill="darkenLess" w="86256" h="21600">
                <a:moveTo>
                  <a:pt x="86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56" y="20200"/>
                </a:lnTo>
                <a:close/>
              </a:path>
              <a:path fill="lighten" w="86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tra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31640" y="4788000"/>
          <a:ext cx="6719760" cy="612720"/>
        </p:xfrm>
        <a:graphic>
          <a:graphicData uri="http://schemas.openxmlformats.org/drawingml/2006/table">
            <a:tbl>
              <a:tblPr/>
              <a:tblGrid>
                <a:gridCol w="2820960"/>
                <a:gridCol w="1008000"/>
                <a:gridCol w="1008000"/>
                <a:gridCol w="1882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sion de la base VA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nc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it le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élécharger la b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pagne octobre 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/10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>
            <a:off x="3313080" y="5114880"/>
            <a:ext cx="863640" cy="21600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86256" h="21600">
                <a:moveTo>
                  <a:pt x="0" y="0"/>
                </a:moveTo>
                <a:lnTo>
                  <a:pt x="86256" y="0"/>
                </a:lnTo>
                <a:lnTo>
                  <a:pt x="86256" y="21600"/>
                </a:lnTo>
                <a:lnTo>
                  <a:pt x="0" y="21600"/>
                </a:lnTo>
                <a:close/>
              </a:path>
              <a:path fill="lightenLess" w="86256" h="21600">
                <a:moveTo>
                  <a:pt x="0" y="0"/>
                </a:moveTo>
                <a:lnTo>
                  <a:pt x="86256" y="0"/>
                </a:lnTo>
                <a:lnTo>
                  <a:pt x="84856" y="1400"/>
                </a:lnTo>
                <a:lnTo>
                  <a:pt x="1400" y="1400"/>
                </a:lnTo>
                <a:close/>
              </a:path>
              <a:path fill="darken" w="86256" h="21600">
                <a:moveTo>
                  <a:pt x="86256" y="0"/>
                </a:moveTo>
                <a:lnTo>
                  <a:pt x="86256" y="21600"/>
                </a:lnTo>
                <a:lnTo>
                  <a:pt x="84856" y="20200"/>
                </a:lnTo>
                <a:lnTo>
                  <a:pt x="84856" y="1400"/>
                </a:lnTo>
                <a:close/>
              </a:path>
              <a:path fill="darkenLess" w="86256" h="21600">
                <a:moveTo>
                  <a:pt x="86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56" y="20200"/>
                </a:lnTo>
                <a:close/>
              </a:path>
              <a:path fill="lighten" w="86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fu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689440" y="5127480"/>
            <a:ext cx="1079640" cy="21600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07820" h="21600">
                <a:moveTo>
                  <a:pt x="0" y="0"/>
                </a:moveTo>
                <a:lnTo>
                  <a:pt x="107820" y="0"/>
                </a:lnTo>
                <a:lnTo>
                  <a:pt x="107820" y="21600"/>
                </a:lnTo>
                <a:lnTo>
                  <a:pt x="0" y="21600"/>
                </a:lnTo>
                <a:close/>
              </a:path>
              <a:path fill="lightenLess" w="107820" h="21600">
                <a:moveTo>
                  <a:pt x="0" y="0"/>
                </a:moveTo>
                <a:lnTo>
                  <a:pt x="107820" y="0"/>
                </a:lnTo>
                <a:lnTo>
                  <a:pt x="106420" y="1400"/>
                </a:lnTo>
                <a:lnTo>
                  <a:pt x="1400" y="1400"/>
                </a:lnTo>
                <a:close/>
              </a:path>
              <a:path fill="darken" w="107820" h="21600">
                <a:moveTo>
                  <a:pt x="107820" y="0"/>
                </a:moveTo>
                <a:lnTo>
                  <a:pt x="107820" y="21600"/>
                </a:lnTo>
                <a:lnTo>
                  <a:pt x="106420" y="20200"/>
                </a:lnTo>
                <a:lnTo>
                  <a:pt x="106420" y="1400"/>
                </a:lnTo>
                <a:close/>
              </a:path>
              <a:path fill="darkenLess" w="107820" h="21600">
                <a:moveTo>
                  <a:pt x="10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20" y="20200"/>
                </a:lnTo>
                <a:close/>
              </a:path>
              <a:path fill="lighten" w="10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73440" y="4079880"/>
            <a:ext cx="1079640" cy="21600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07820" h="21600">
                <a:moveTo>
                  <a:pt x="0" y="0"/>
                </a:moveTo>
                <a:lnTo>
                  <a:pt x="107820" y="0"/>
                </a:lnTo>
                <a:lnTo>
                  <a:pt x="107820" y="21600"/>
                </a:lnTo>
                <a:lnTo>
                  <a:pt x="0" y="21600"/>
                </a:lnTo>
                <a:close/>
              </a:path>
              <a:path fill="lightenLess" w="107820" h="21600">
                <a:moveTo>
                  <a:pt x="0" y="0"/>
                </a:moveTo>
                <a:lnTo>
                  <a:pt x="107820" y="0"/>
                </a:lnTo>
                <a:lnTo>
                  <a:pt x="106420" y="1400"/>
                </a:lnTo>
                <a:lnTo>
                  <a:pt x="1400" y="1400"/>
                </a:lnTo>
                <a:close/>
              </a:path>
              <a:path fill="darken" w="107820" h="21600">
                <a:moveTo>
                  <a:pt x="107820" y="0"/>
                </a:moveTo>
                <a:lnTo>
                  <a:pt x="107820" y="21600"/>
                </a:lnTo>
                <a:lnTo>
                  <a:pt x="106420" y="20200"/>
                </a:lnTo>
                <a:lnTo>
                  <a:pt x="106420" y="1400"/>
                </a:lnTo>
                <a:close/>
              </a:path>
              <a:path fill="darkenLess" w="107820" h="21600">
                <a:moveTo>
                  <a:pt x="10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20" y="20200"/>
                </a:lnTo>
                <a:close/>
              </a:path>
              <a:path fill="lighten" w="10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097840" y="4067280"/>
            <a:ext cx="1079640" cy="21564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8000" h="21600">
                <a:moveTo>
                  <a:pt x="0" y="0"/>
                </a:moveTo>
                <a:lnTo>
                  <a:pt x="108000" y="0"/>
                </a:lnTo>
                <a:lnTo>
                  <a:pt x="108000" y="21600"/>
                </a:lnTo>
                <a:lnTo>
                  <a:pt x="0" y="21600"/>
                </a:lnTo>
                <a:close/>
              </a:path>
              <a:path fill="lightenLess" w="108000" h="21600">
                <a:moveTo>
                  <a:pt x="0" y="0"/>
                </a:moveTo>
                <a:lnTo>
                  <a:pt x="108000" y="0"/>
                </a:lnTo>
                <a:lnTo>
                  <a:pt x="106600" y="1400"/>
                </a:lnTo>
                <a:lnTo>
                  <a:pt x="1400" y="1400"/>
                </a:lnTo>
                <a:close/>
              </a:path>
              <a:path fill="darken" w="108000" h="21600">
                <a:moveTo>
                  <a:pt x="108000" y="0"/>
                </a:moveTo>
                <a:lnTo>
                  <a:pt x="108000" y="21600"/>
                </a:lnTo>
                <a:lnTo>
                  <a:pt x="106600" y="20200"/>
                </a:lnTo>
                <a:lnTo>
                  <a:pt x="106600" y="1400"/>
                </a:lnTo>
                <a:close/>
              </a:path>
              <a:path fill="darkenLess" w="108000" h="21600">
                <a:moveTo>
                  <a:pt x="108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600" y="20200"/>
                </a:lnTo>
                <a:close/>
              </a:path>
              <a:path fill="lighten" w="108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786280" y="4067280"/>
            <a:ext cx="863640" cy="21564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86400" h="21600">
                <a:moveTo>
                  <a:pt x="0" y="0"/>
                </a:moveTo>
                <a:lnTo>
                  <a:pt x="86400" y="0"/>
                </a:lnTo>
                <a:lnTo>
                  <a:pt x="86400" y="21600"/>
                </a:lnTo>
                <a:lnTo>
                  <a:pt x="0" y="21600"/>
                </a:lnTo>
                <a:close/>
              </a:path>
              <a:path fill="lightenLess" w="86400" h="21600">
                <a:moveTo>
                  <a:pt x="0" y="0"/>
                </a:moveTo>
                <a:lnTo>
                  <a:pt x="86400" y="0"/>
                </a:lnTo>
                <a:lnTo>
                  <a:pt x="85000" y="1400"/>
                </a:lnTo>
                <a:lnTo>
                  <a:pt x="1400" y="1400"/>
                </a:lnTo>
                <a:close/>
              </a:path>
              <a:path fill="darken" w="86400" h="21600">
                <a:moveTo>
                  <a:pt x="86400" y="0"/>
                </a:moveTo>
                <a:lnTo>
                  <a:pt x="86400" y="21600"/>
                </a:lnTo>
                <a:lnTo>
                  <a:pt x="85000" y="20200"/>
                </a:lnTo>
                <a:lnTo>
                  <a:pt x="85000" y="1400"/>
                </a:lnTo>
                <a:close/>
              </a:path>
              <a:path fill="darkenLess" w="86400" h="21600">
                <a:moveTo>
                  <a:pt x="86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5000" y="20200"/>
                </a:lnTo>
                <a:close/>
              </a:path>
              <a:path fill="lighten" w="86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trai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0"/>
            <a:ext cx="10080720" cy="1476360"/>
          </a:xfrm>
          <a:prstGeom prst="roundRect">
            <a:avLst>
              <a:gd name="adj" fmla="val 125"/>
            </a:avLst>
          </a:prstGeom>
          <a:solidFill>
            <a:srgbClr val="ffffff"/>
          </a:soli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Suivi régional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Provence Alpes Côte d‘A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800" spc="-1" strike="noStrike">
                <a:solidFill>
                  <a:srgbClr val="0066ff"/>
                </a:solidFill>
                <a:latin typeface="Arial"/>
              </a:rPr>
              <a:t>Traitement fichier certifica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722200" y="108000"/>
            <a:ext cx="31496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Identifiant : Admin I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76360" y="1619280"/>
            <a:ext cx="9074160" cy="44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ertificateur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DAVA.           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ichier export du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25/9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 le trai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identification et suppression des enregistrements sans dates de naiss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fr-FR" sz="1800" spc="-1" strike="noStrike">
                <a:solidFill>
                  <a:srgbClr val="008000"/>
                </a:solidFill>
                <a:latin typeface="Arial"/>
              </a:rPr>
              <a:t>Fait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134 enregistrements sur 678 supprim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identification et suppression des enregistrements sans 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fr-FR" sz="1800" spc="-1" strike="noStrike">
                <a:solidFill>
                  <a:srgbClr val="008000"/>
                </a:solidFill>
                <a:latin typeface="Arial"/>
              </a:rPr>
              <a:t>Fait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25 enregistrements sur 678 supprim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identification et suppression des enregistrements sans dates dépôt de dossier ni date de recevabi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fr-FR" sz="1800" spc="-1" strike="noStrike">
                <a:solidFill>
                  <a:srgbClr val="008000"/>
                </a:solidFill>
                <a:latin typeface="Arial"/>
              </a:rPr>
              <a:t>Fait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5 enregistrements sur 678 supprim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traitements spécifiques conformément aux règ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fr-FR" sz="1800" spc="-1" strike="noStrike">
                <a:solidFill>
                  <a:srgbClr val="008000"/>
                </a:solidFill>
                <a:latin typeface="Arial"/>
              </a:rPr>
              <a:t>F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2000" y="6012000"/>
            <a:ext cx="7848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92000" y="6012000"/>
            <a:ext cx="5257800" cy="287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3200" y="6600960"/>
            <a:ext cx="5089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 l’édition du rapport et du fichier tra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10080720" cy="1476360"/>
          </a:xfrm>
          <a:prstGeom prst="roundRect">
            <a:avLst>
              <a:gd name="adj" fmla="val 125"/>
            </a:avLst>
          </a:prstGeom>
          <a:solidFill>
            <a:srgbClr val="ffffff"/>
          </a:soli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Suivi régional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Provence Alpes Côte d‘A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800" spc="-1" strike="noStrike">
                <a:solidFill>
                  <a:srgbClr val="0066ff"/>
                </a:solidFill>
                <a:latin typeface="Arial"/>
              </a:rPr>
              <a:t>Mise à jour de la base des parcours V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722200" y="108000"/>
            <a:ext cx="31496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Identifiant : Admin I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76360" y="1763640"/>
            <a:ext cx="90741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ampagn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octobre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 la mise à j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0720" y="2987640"/>
            <a:ext cx="7848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0720" y="2987640"/>
            <a:ext cx="5257800" cy="287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46200" y="4800600"/>
            <a:ext cx="5520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 l’édition de la nouvelle version de la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50160" y="3851280"/>
            <a:ext cx="4915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 les compléments d’enregist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0"/>
            <a:ext cx="10080720" cy="1476360"/>
          </a:xfrm>
          <a:prstGeom prst="roundRect">
            <a:avLst>
              <a:gd name="adj" fmla="val 125"/>
            </a:avLst>
          </a:prstGeom>
          <a:solidFill>
            <a:srgbClr val="ffffff"/>
          </a:soli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Suivi régional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Provence Alpes Côte d‘A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2800" spc="-1" strike="noStrike">
                <a:solidFill>
                  <a:srgbClr val="0066ff"/>
                </a:solidFill>
                <a:latin typeface="Arial"/>
              </a:rPr>
              <a:t>Compléments</a:t>
            </a:r>
            <a:r>
              <a:rPr b="1" i="1" lang="de-DE" sz="2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i="1" lang="fr-FR" sz="2800" spc="-1" strike="noStrike">
                <a:solidFill>
                  <a:srgbClr val="0066ff"/>
                </a:solidFill>
                <a:latin typeface="Arial"/>
              </a:rPr>
              <a:t>d‘enregist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722200" y="108000"/>
            <a:ext cx="31496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Identifiant : Admin I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76360" y="1763640"/>
            <a:ext cx="9074160" cy="46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ttachement du fichier de données complémentaire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attach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éparation du fichier d’export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créez le fichier d’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harmonisation des champs du fichier avec la base régionale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normalisation des noms, prénoms et dates de naiss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anonymisation du fichier : remplacement des noms et prénoms par un code    indéchiffr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registrement du fichier dans le serveur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enregistr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raitement des données avant fusion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trait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usion des données dans la base des parcours VAE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fusionn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10080720" cy="1260360"/>
          </a:xfrm>
          <a:prstGeom prst="roundRect">
            <a:avLst>
              <a:gd name="adj" fmla="val 125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ffffff"/>
                </a:solidFill>
                <a:latin typeface="Arial"/>
              </a:rPr>
              <a:t>Suivi régional des Parcours V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ffffff"/>
                </a:solidFill>
                <a:latin typeface="Arial"/>
              </a:rPr>
              <a:t>Provence Alpes Côte d‘Az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51960" y="1476360"/>
            <a:ext cx="4686840" cy="34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onnées et résultats statistiques région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cc"/>
                </a:solidFill>
                <a:latin typeface="Arial"/>
              </a:rPr>
              <a:t>Exportez vos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cc"/>
                </a:solidFill>
                <a:latin typeface="Arial"/>
              </a:rPr>
              <a:t>Mes fichiers, mes statist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42120" y="1692360"/>
            <a:ext cx="323532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uide d’utilisation du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on comp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877360" y="0"/>
            <a:ext cx="41979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Identifiant : Dupond I Direccte I </a:t>
            </a:r>
            <a:r>
              <a:rPr b="0" lang="fr-FR" sz="1600" spc="-1" strike="noStrike">
                <a:solidFill>
                  <a:srgbClr val="ccccff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60360" y="2050920"/>
            <a:ext cx="9504360" cy="377280"/>
            <a:chOff x="360360" y="2050920"/>
            <a:chExt cx="9504360" cy="377280"/>
          </a:xfrm>
        </p:grpSpPr>
        <p:sp>
          <p:nvSpPr>
            <p:cNvPr id="51" name=""/>
            <p:cNvSpPr/>
            <p:nvPr/>
          </p:nvSpPr>
          <p:spPr>
            <a:xfrm>
              <a:off x="360360" y="2050920"/>
              <a:ext cx="950436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Arial Unicode MS"/>
                </a:rPr>
                <a:t>     </a:t>
              </a: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Validation                 Préparation du fichier d’export                  Ex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03280" y="2124000"/>
              <a:ext cx="21600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92360" y="2124000"/>
              <a:ext cx="21600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769080" y="2124000"/>
              <a:ext cx="21600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3333cc"/>
                </a:solidFill>
                <a:latin typeface="Arial"/>
              </a:rPr>
              <a:t>Données non enregistrées</a:t>
            </a: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19120" y="3527280"/>
            <a:ext cx="743760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Export des données, mode d’emploi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Démarrer l’assistant d’exportation des données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démar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10080720" cy="1476360"/>
          </a:xfrm>
          <a:prstGeom prst="roundRect">
            <a:avLst>
              <a:gd name="adj" fmla="val 125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Arial"/>
              </a:rPr>
              <a:t>Suivi régional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Arial"/>
              </a:rPr>
              <a:t>Provence Alpes Côte d‘A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Arial"/>
              </a:rPr>
              <a:t>Interface d‘export des données certifica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23280" y="108000"/>
            <a:ext cx="41979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Identifiant : Dupond I Direccte I </a:t>
            </a:r>
            <a:r>
              <a:rPr b="0" lang="fr-FR" sz="1600" spc="-1" strike="noStrike">
                <a:solidFill>
                  <a:srgbClr val="ccccff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3280" y="3274920"/>
            <a:ext cx="7437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attachez votre fichier de données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attach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19280" y="3780000"/>
            <a:ext cx="4619520" cy="30096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69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03280" y="3274920"/>
            <a:ext cx="9074160" cy="26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otre fichier de données est correctement paramétré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continu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otre fichier a été traité pour le rendre conform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- X colonnes, Y lignes, Z doublons complets ont été supprimés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  <a:ea typeface="Arial Unicode MS"/>
              </a:rPr>
              <a:t>continue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otre fichier de données ne peut pas être traité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-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  <a:ea typeface="Arial Unicode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il n’est pas au format .csv ou tabulé : enregistrez votre fichier au bon format et recommenc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79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3280" y="3274920"/>
            <a:ext cx="9074160" cy="34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ncez la préparation de votre fichier d’expor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harmonisation des champs du fichier avec la base régionale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normalisation des noms, prénoms et dates de naiss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anonymisation du fichier : remplacement des noms et prénoms par un code    indéchiffr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 l’issue de cette opération, vous pourrez consulter le fichier traité et décider ou non de l’enregistrer sur le serveur (expor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usqu’à cette étape, vos données ne sont pas enregistré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89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708360"/>
            <a:ext cx="7848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95280" y="3708360"/>
            <a:ext cx="5257800" cy="287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42000" y="4194000"/>
            <a:ext cx="497520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Harmonisation des champs.....normalisation des valeurs..............anonymisation........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101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3708360"/>
            <a:ext cx="7848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95280" y="3708360"/>
            <a:ext cx="7848720" cy="287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41280" y="4194000"/>
            <a:ext cx="6967800" cy="31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otre fichier a été correctement configur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oulez vous contrôler vos données avant leur enregistrement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3333ff"/>
                </a:solidFill>
                <a:latin typeface="Arial"/>
              </a:rPr>
              <a:t>Voir mes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oulez vous exporter vos données vers le serveur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3333ff"/>
                </a:solidFill>
                <a:latin typeface="Arial"/>
              </a:rPr>
              <a:t>Exporter mes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60360" y="2050920"/>
            <a:ext cx="9504360" cy="377280"/>
            <a:chOff x="360360" y="2050920"/>
            <a:chExt cx="9504360" cy="377280"/>
          </a:xfrm>
        </p:grpSpPr>
        <p:sp>
          <p:nvSpPr>
            <p:cNvPr id="118" name=""/>
            <p:cNvSpPr/>
            <p:nvPr/>
          </p:nvSpPr>
          <p:spPr>
            <a:xfrm>
              <a:off x="360360" y="2050920"/>
              <a:ext cx="950436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Arial Unicode MS"/>
                </a:rPr>
                <a:t>     </a:t>
              </a: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Validation                 Préparation du fichier d’export                  Ex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3280" y="2124000"/>
              <a:ext cx="216000" cy="21600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92360" y="2124000"/>
              <a:ext cx="216000" cy="21600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769080" y="2124000"/>
              <a:ext cx="21600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3059280"/>
            <a:ext cx="10080720" cy="30337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21080" y="6372360"/>
            <a:ext cx="31266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3333ff"/>
                </a:solidFill>
                <a:latin typeface="Arial"/>
              </a:rPr>
              <a:t>Télécharger mes donnée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125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9:32:33Z</dcterms:created>
  <dc:creator/>
  <dc:description/>
  <dc:language>en-US</dc:language>
  <cp:lastModifiedBy>Bruno</cp:lastModifiedBy>
  <dcterms:modified xsi:type="dcterms:W3CDTF">2010-09-08T09:38:17Z</dcterms:modified>
  <cp:revision>9</cp:revision>
  <dc:subject/>
  <dc:title>Diapositive 1</dc:title>
</cp:coreProperties>
</file>